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7120" cy="12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A69-9BF6-43C6-B9C6-D215E6A6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4E0-EBC8-441D-8BEC-5F6EE392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4A9-3968-4433-8333-FB557EB6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110-5570-4838-9D90-0615D370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9CC-5944-4CE7-9626-735354E4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719-DD1C-4BF0-AE67-421A243C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6E7-E07B-4554-9976-9B2DB7AF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463-78E5-4F04-9C16-807E2B55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968-3836-4B02-97D0-45F02A77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CEC-1C22-40B7-81BE-3343C806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C84-A426-4207-837A-D47CA32B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E55-5700-46B8-BC9A-4BC55BF4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CE7047-BDC3-4521-B72D-62F45720699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IL CONTENZIOSO 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TRIBU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084720" y="6165720"/>
            <a:ext cx="27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f. Costantino Pillitter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Picture 6" descr="logo"/>
          <p:cNvPicPr/>
          <p:nvPr/>
        </p:nvPicPr>
        <p:blipFill>
          <a:blip r:embed="rId1"/>
          <a:stretch/>
        </p:blipFill>
        <p:spPr>
          <a:xfrm>
            <a:off x="539640" y="333360"/>
            <a:ext cx="107964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743120" y="334800"/>
            <a:ext cx="63590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entury Schoolbook"/>
              </a:rPr>
              <a:t>Ordine dei Dottori Commercialisti e degli esperti contabili di Palerm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entury Schoolbook"/>
              </a:rPr>
              <a:t>Circoscrizione dei Tribunali di Palermo e Termini Imerese – Ente Pubblico non economico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Century Schoolbook"/>
              </a:rPr>
              <a:t>Incontro formativo tirocinanti del 16.04.2018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MODALITÀ di PROPOSIZIONE del RICORS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9280" y="155736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va più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redatto in carta da bollo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sendo i ricorsi notificati a partire dal 7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uglio 2011 assoggettati al Contributo Unificato Tributari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7040" y="2349360"/>
            <a:ext cx="87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intest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Commissione Tributaria Provinciale territorialmente competen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44360" y="2781360"/>
            <a:ext cx="910764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trasmess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controparte resistente (Ufficio finanziario, Ente locale,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ente della riscossione)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95280" y="3429000"/>
            <a:ext cx="8353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pedi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lla controparte)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l'origin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mezzo posta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lico senza busta raccomand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57120" y="4071960"/>
            <a:ext cx="83534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co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segna diretta dell'originale all'Ufficio finanziario o all'Ente locale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rilascia ricevuta su un documento separato intestato al consegnatario. (N.B.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n è ammessa la consegna dirett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orso all'Agent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cossione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95280" y="5265720"/>
            <a:ext cx="84978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dia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tific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onforme all'originale) 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ors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mezzo di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fficiale Giudiziario, che rilascia «relata di notifica»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ll'originale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quale vien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tituito al difensore del ricorrente (o, nei casi di ricorso diretto del ricorrente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quest'ultim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TERMINI per la PROPOSIZIONE del RICORS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so deve essere spedito o consegnato o notificato ent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60 giorni dalla data di notific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'atto impugnato (termine perentori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1120" y="2339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 caso che esso riguardi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stituzione di tributi, sanzioni pecuniarie,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essi o altri accessori non dovu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5148360" y="3024360"/>
            <a:ext cx="1619280" cy="107928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755640" y="4292640"/>
            <a:ext cx="2700360" cy="223200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900000" y="4392720"/>
            <a:ext cx="234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 u="sng">
                <a:solidFill>
                  <a:srgbClr val="c5000b"/>
                </a:solidFill>
                <a:uFillTx/>
                <a:latin typeface="Arial"/>
              </a:rPr>
              <a:t>Presupposto del ricors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è la previa istanza di restituzione inoltrata, all'Ufficio competente nei termini di decadenza (per i versamenti diretti entro 48 mesi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5219640" y="4292640"/>
            <a:ext cx="2879640" cy="223200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400720" y="4392720"/>
            <a:ext cx="27003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c5000b"/>
                </a:solidFill>
                <a:latin typeface="Arial"/>
              </a:rPr>
              <a:t>I</a:t>
            </a:r>
            <a:r>
              <a:rPr b="0" lang="it-IT" sz="1600" spc="-1" strike="noStrike" u="sng">
                <a:solidFill>
                  <a:srgbClr val="c5000b"/>
                </a:solidFill>
                <a:uFillTx/>
                <a:latin typeface="Arial"/>
              </a:rPr>
              <a:t>l ricorso va propos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ntro 60 giorni dal rifiuto dell'Ufficio o decorsi 90 giorni (cioè dopo la formazione del cd.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lenzio-rifiuto)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d entro il termine di prescrizione decennal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3114720" y="3294000"/>
            <a:ext cx="2282760" cy="927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ICHIEST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IMBORS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2031840" y="3036960"/>
            <a:ext cx="1283040" cy="107928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TERMINI per la COSTITUZIONE in GIUDIZIO del RICORRENTE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360" y="15822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rente s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stituisce in giudizi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ositando (o, con qualche rischio, anche spedendo), ent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 giorni dalla proposizione del ricorso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pena di inammissibilità, presso la Segreteria della Commissione Tributaria adi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360360" y="3240000"/>
            <a:ext cx="3959280" cy="341964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60360" y="3417840"/>
            <a:ext cx="395928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a copi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ricorso, se la proposizione è avvenuta a mezzo posta o mediante consegna diretta; con la precisazione che tale copia (destinata alla Commissione) deve essere dichiarata conforme con quella spedita o consegnata alla controparte. 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chiarazione di conformit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copia depositata va apposta in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lc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la copia del ricorso e sottoscritta da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fensore incaricat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o dal ricorrente, se si è difeso personalmente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4680000" y="3240000"/>
            <a:ext cx="4140000" cy="341964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680000" y="4211640"/>
            <a:ext cx="39592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origi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ricorso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 la notific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avvenuta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zzo di Ufficial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iudiziari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AutoShape 7"/>
          <p:cNvSpPr/>
          <p:nvPr/>
        </p:nvSpPr>
        <p:spPr>
          <a:xfrm rot="3060000">
            <a:off x="3563280" y="2362680"/>
            <a:ext cx="336600" cy="966960"/>
          </a:xfrm>
          <a:prstGeom prst="downArrow">
            <a:avLst>
              <a:gd name="adj1" fmla="val 50000"/>
              <a:gd name="adj2" fmla="val 71818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AutoShape 8"/>
          <p:cNvSpPr/>
          <p:nvPr/>
        </p:nvSpPr>
        <p:spPr>
          <a:xfrm rot="18180000">
            <a:off x="5005440" y="2291760"/>
            <a:ext cx="315720" cy="1131840"/>
          </a:xfrm>
          <a:prstGeom prst="downArrow">
            <a:avLst>
              <a:gd name="adj1" fmla="val 50000"/>
              <a:gd name="adj2" fmla="val 89624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EL FASCICOL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39640" y="1268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ui frontespizio riporta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e adita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ati del ricorrente, del difensore incaricato, della controparte, l'oggetto della controversia e l'indice del contenut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Oval 3"/>
          <p:cNvSpPr/>
          <p:nvPr/>
        </p:nvSpPr>
        <p:spPr>
          <a:xfrm>
            <a:off x="179280" y="3240000"/>
            <a:ext cx="197964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6588000" y="4653000"/>
            <a:ext cx="2087640" cy="1717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3887640" y="2924280"/>
            <a:ext cx="2700360" cy="2340000"/>
          </a:xfrm>
          <a:prstGeom prst="ellipse">
            <a:avLst/>
          </a:prstGeom>
          <a:solidFill>
            <a:srgbClr val="ffff99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1979640" y="4680000"/>
            <a:ext cx="197964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3635280"/>
            <a:ext cx="21603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ventuali documenti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citati nel ricorso o comunque ritenuti utili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068720" y="3311640"/>
            <a:ext cx="2384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. la copia della ricevut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icor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lasciato dall'Ufficio destinatari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nel caso di consegna diretta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 dall'Ufficio postal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nel caso di spedizion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mezzo Racc. A.R.)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141640" y="5143680"/>
            <a:ext cx="16034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 L'originale o l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tocopi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l'atto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mpugnat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659640" y="5184720"/>
            <a:ext cx="20365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la prova dell'avvenu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gamen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Contributo unifica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ibutari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AutoShape 18"/>
          <p:cNvSpPr/>
          <p:nvPr/>
        </p:nvSpPr>
        <p:spPr>
          <a:xfrm rot="17919600">
            <a:off x="2987640" y="3716280"/>
            <a:ext cx="976320" cy="9763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AutoShape 19"/>
          <p:cNvSpPr/>
          <p:nvPr/>
        </p:nvSpPr>
        <p:spPr>
          <a:xfrm flipV="1" rot="3247200">
            <a:off x="971640" y="4797360"/>
            <a:ext cx="936000" cy="1079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AutoShape 20"/>
          <p:cNvSpPr/>
          <p:nvPr/>
        </p:nvSpPr>
        <p:spPr>
          <a:xfrm flipH="1" rot="14514000">
            <a:off x="5702760" y="5033160"/>
            <a:ext cx="976320" cy="10792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AutoShape 21"/>
          <p:cNvSpPr/>
          <p:nvPr/>
        </p:nvSpPr>
        <p:spPr>
          <a:xfrm rot="19065000">
            <a:off x="7885080" y="3716280"/>
            <a:ext cx="976320" cy="11509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49360" y="2300400"/>
            <a:ext cx="84153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ifensore del ricorrente (o, nei casi di difesa diretta, lo stesso ricorrente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v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positar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spedire in Segreteria, insieme con il ricorso, il propri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scicolo, comprendent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079640" y="179280"/>
            <a:ext cx="7226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EL FASCICOL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900000" y="1440000"/>
            <a:ext cx="3240360" cy="216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4932360" y="2924280"/>
            <a:ext cx="3780000" cy="2290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274760" y="1979640"/>
            <a:ext cx="2610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 Nel caso in cui ci si avvalg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dell'Ufficiale giudiziario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«relata» che attesta l'avvenut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otificazione del ricorso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094360" y="3392640"/>
            <a:ext cx="3510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oltre il deposito della nota di iscrizion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ruolo  (art. 22, comma 1, D.Lgs. 546/1992),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sostituzione della cd. «nota di deposito»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2484360" y="2519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AutoShape 10"/>
          <p:cNvSpPr/>
          <p:nvPr/>
        </p:nvSpPr>
        <p:spPr>
          <a:xfrm flipV="1" rot="3247200">
            <a:off x="3608280" y="3455280"/>
            <a:ext cx="1146240" cy="12351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AutoShape 11"/>
          <p:cNvSpPr/>
          <p:nvPr/>
        </p:nvSpPr>
        <p:spPr>
          <a:xfrm rot="19065000">
            <a:off x="241200" y="910800"/>
            <a:ext cx="976320" cy="11239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OCUMENTI, MEMORIE ILLUSTRATIVE, ISTANZA PUBBLICA UDIENZA e BREVI REPLICHE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1120" y="317016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parti possono depositare presso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egreteria della Commissione Tribut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igin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in ta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nte sono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tre parti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 flipH="1">
            <a:off x="2151000" y="3780000"/>
            <a:ext cx="1098720" cy="9000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4319640" y="3780000"/>
            <a:ext cx="1440" cy="126036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5040360" y="3780000"/>
            <a:ext cx="1439640" cy="9000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539640" y="5040360"/>
            <a:ext cx="234000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39640" y="5040360"/>
            <a:ext cx="24415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 «giorni liberi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della data d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ttazione dell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roversia in pubblic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dienza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40000" y="5040360"/>
            <a:ext cx="234000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168720" y="4824360"/>
            <a:ext cx="24717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morie illustrativ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 «giorni liberi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della data d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ttazione in pubbli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dienza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6119640" y="5040360"/>
            <a:ext cx="251964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119640" y="5095800"/>
            <a:ext cx="24004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revi replich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«giorni liberi»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trattazione i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mera di consiglio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L'ISTANZA DI PUBBLICA UDIENZA</a:t>
            </a:r>
            <a:r>
              <a:rPr b="0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 depositata entr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0 «giorni liberi»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ima della data per la trattazione;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o stesso termin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 notificata alle altre parti costituite (Ufficio finanziario, Comune,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gente della riscossione, ec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11120" y="3600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DOCUMENTI NON CONOSCIUTI</a:t>
            </a: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79280" y="1212840"/>
            <a:ext cx="871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sentati dalla controparte o per ordine della Commissione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l'unico caso in cui è ammessa l'integrazione dei motivi esposti nel ricorso introduttivo; tale facoltà va esercit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tro 60 giorn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quando la parte ha avuto notizia del deposito di nuovi documenti, prima che sia stata fissata la trattazione o l'udienza (se già fissata si può chiedere il rinvio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4520" y="3500280"/>
            <a:ext cx="873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 </a:t>
            </a:r>
            <a:r>
              <a:rPr b="1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UDIENZA - AVVISO di TRATTAZIONE</a:t>
            </a: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24000" y="482436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egreteria della Commissione deve dar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al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i in giudizi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 di tratt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a controversia; tale comunicazione deve essere fat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lmeno 30 giorni liber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ima 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 dell'udienza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755640" y="1341360"/>
            <a:ext cx="75358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E REGOLE per il COMPUTO dei TERMINI PROCESSUALI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000" y="2266560"/>
            <a:ext cx="850572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il computo dei termini valgono l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gol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nute nell'art.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55 c.p.c.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tegrate da quelle previste nell'art.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2963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.c.: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800360" y="360360"/>
            <a:ext cx="57592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440000" y="693720"/>
            <a:ext cx="5986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COMPUTO DEI TERMINI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3851280" y="335772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deb3d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18760" y="4486320"/>
            <a:ext cx="850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conteggio dei termini 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iorni,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esclud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giorno inizial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dies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quo)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si comprende i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iorno final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dies ad quem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70020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LA COMMISSIONE </a:t>
            </a:r>
            <a:br>
              <a:rPr sz="4000"/>
            </a:b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TRIBUTA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332000" y="2709720"/>
            <a:ext cx="6769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un organo della giurisdizione tributaria che ha la funzione di risolvere le controversie venutesi a creare tra i contribuenti e il fisc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Ma se il termine viene a scadere in un giorno festivo o di sabato</a:t>
            </a:r>
            <a:r>
              <a:rPr b="0" lang="it-IT" sz="36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324000" y="2349360"/>
            <a:ext cx="4140000" cy="2519640"/>
          </a:xfrm>
          <a:prstGeom prst="roundRect">
            <a:avLst>
              <a:gd name="adj" fmla="val 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31920" y="2382840"/>
            <a:ext cx="45306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n caso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esentazione de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stituzione in giudizi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corrent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cadenza del termine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rogata al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o giorno successivo non festiv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2195640" y="3429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4680000" y="2340000"/>
            <a:ext cx="4140000" cy="2519280"/>
          </a:xfrm>
          <a:prstGeom prst="roundRect">
            <a:avLst>
              <a:gd name="adj" fmla="val 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675320" y="2627280"/>
            <a:ext cx="420372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In caso di presentazione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 memorie illustrative,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o che il comput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termine va fatto «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troso»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cadenza del termine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ticipata al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o giorno precedente non festiv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6480000" y="341964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GIORNI LIBERI</a:t>
            </a:r>
            <a:r>
              <a:rPr b="1" lang="it-IT" sz="44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8858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l computo de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«giorni liberi»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differenza dei termini normali, non va considerato né il giorno inizia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die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o)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é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iorno fina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dies ad que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8082000" y="2224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4784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84240" y="4130640"/>
            <a:ext cx="88804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però il termine (iniziale o) finale cade in un giorno festivo               (sabato, domenica o festività riconosciute) allora si deve conteggiare un giorno (o due) in pi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PERIODO FERIALE</a:t>
            </a:r>
            <a:r>
              <a:rPr b="1" lang="it-IT" sz="44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2636640"/>
            <a:ext cx="878508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rmin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uali subiscono una sospensione dal 1° al 31 Agosto di ogni an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ve il decorso abbia inizio durante il periodo di sospensione, l'inizio stesso è differito alla fine del detto periodo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ALCOLO DEI GIORNI,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N PARTICOL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PROPOSIZIONE del RICORS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720720" y="161928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720720" y="1735200"/>
            <a:ext cx="2340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l'ultimo giorno utile per proporre i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60° giorn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– 31.8)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3419640" y="2421000"/>
            <a:ext cx="2160360" cy="144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5759280" y="1620720"/>
            <a:ext cx="2484720" cy="173700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759280" y="1619280"/>
            <a:ext cx="234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720720" y="378000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84360" y="378936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il primo giorno utile per proporre i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cioè il giorno successivo alla notifica dell'atto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ugnato) cade nel periodo feriale (1.8 - 31.8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5796000" y="378000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724360" y="4032360"/>
            <a:ext cx="2340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mputo dei 60 gg. utili per la proposizione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 ri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izier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l’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9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res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3348000" y="4651200"/>
            <a:ext cx="2160720" cy="18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761080" y="1700280"/>
            <a:ext cx="2340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956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i fini del computo del 60 gg., si somma il perio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tilmente de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a dell' 1.8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el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ccessivo al 31.8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COSTITUZIONE in GIUDIZIO del RICORR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898560" y="19810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5398920" y="197964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900000" y="39592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5400720" y="39592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900000" y="2124000"/>
            <a:ext cx="30607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l'ultimo giorno utile per costituirsi in giudizio (30° giorn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- 31.8) ai fini 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pimento dei 30 giorn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472000" y="1979640"/>
            <a:ext cx="2880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 somma il periodo utilment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a dell'1.8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el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ccessivo al 1.9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900000" y="4103640"/>
            <a:ext cx="30607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il primo giorno utile per costituirsi in giudizi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cioè il giorno successivo alla proposizione del ricors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- 31.8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5508720" y="4140360"/>
            <a:ext cx="270036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mputo dei 30 gg. utili per la costituzione in giudizio del ricorrent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izier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i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9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da computare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4068720" y="2771640"/>
            <a:ext cx="1260360" cy="18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4068720" y="4680000"/>
            <a:ext cx="1260360" cy="144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2184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) 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i DOCUMENTI e   MEMORIE ILLUSTRATIVE</a:t>
            </a:r>
            <a:r>
              <a:rPr b="1" lang="it-IT" sz="40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3284640"/>
            <a:ext cx="8218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6880" indent="-596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che in questo caso, pur dovendo effettuare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uto a ritroso dei giorni liberi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ccorre ten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sent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iod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e il giorno festivo (cui viene equiparato il saba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spcBef>
                <a:spcPts val="601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spcBef>
                <a:spcPts val="601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UDIENZA - AVVISO di TRATTAZIONE</a:t>
            </a:r>
            <a:r>
              <a:rPr b="1" lang="it-IT" sz="40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6880" indent="-596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a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cezione della comunicazione e l'udienza di tratt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vono intercorrere almen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30 giorni «liberi»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tenendo conto anche della sospensione dei termini processuali nel period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erial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924120" y="4632480"/>
            <a:ext cx="700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nche in questo caso si deve tener conto del periodo feria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ACCERTAMENTO con ADE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38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che in questo caso vale il periodo d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ospensione fer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49320" y="2511360"/>
            <a:ext cx="80866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90 giorni decorrono dal giorno in cui è stat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epositata l'istanz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so l'ufficio e possono sommarsi con i giorni di sospensione dovut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 periodo feriale (cfr. C.M. 8.8.1997, n. 235/E, nonché C.M. 17.6.1999, n. 133/E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946800" y="3933720"/>
            <a:ext cx="83174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vale, invece, il periodo feriale per le &lt;&lt;</a:t>
            </a:r>
            <a:r>
              <a:rPr b="1" lang="it-IT" sz="2000" spc="-1" strike="noStrike">
                <a:solidFill>
                  <a:srgbClr val="c5000b"/>
                </a:solidFill>
                <a:latin typeface="Arial"/>
              </a:rPr>
              <a:t>osservazioni e richies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il contribuente ha facoltà di presentare ex art.12 della L. 212/2000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sullo Statuto dei diritti del contribuente) nei sessanta giorni successiv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a data di consegna del PV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44280"/>
            <a:ext cx="821700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FAC-SIMILE RICORSO CON IST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"/>
          <p:cNvPicPr/>
          <p:nvPr/>
        </p:nvPicPr>
        <p:blipFill>
          <a:blip r:embed="rId1"/>
          <a:stretch/>
        </p:blipFill>
        <p:spPr>
          <a:xfrm>
            <a:off x="1835280" y="836640"/>
            <a:ext cx="55450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GRADI DI GIUDIZ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giurisdizione tributaria è esercitata da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1979640" y="2492280"/>
            <a:ext cx="216072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Line 6"/>
          <p:cNvSpPr/>
          <p:nvPr/>
        </p:nvSpPr>
        <p:spPr>
          <a:xfrm>
            <a:off x="4356000" y="2492280"/>
            <a:ext cx="230364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24000" y="3933720"/>
            <a:ext cx="3384360" cy="1295640"/>
          </a:xfrm>
          <a:prstGeom prst="rect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3040" y="4149720"/>
            <a:ext cx="325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I TRIBUTARI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VINCIA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959120" y="60674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816200" y="36194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Text Box 46"/>
          <p:cNvSpPr/>
          <p:nvPr/>
        </p:nvSpPr>
        <p:spPr>
          <a:xfrm>
            <a:off x="663480" y="3187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5291280" y="3933720"/>
            <a:ext cx="3528720" cy="1295640"/>
          </a:xfrm>
          <a:prstGeom prst="rect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Text Box 51"/>
          <p:cNvSpPr/>
          <p:nvPr/>
        </p:nvSpPr>
        <p:spPr>
          <a:xfrm>
            <a:off x="5436360" y="4156200"/>
            <a:ext cx="32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I TRIBUTARI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IONA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1" descr="2"/>
          <p:cNvPicPr/>
          <p:nvPr/>
        </p:nvPicPr>
        <p:blipFill>
          <a:blip r:embed="rId1"/>
          <a:stretch/>
        </p:blipFill>
        <p:spPr>
          <a:xfrm>
            <a:off x="190800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8" descr="3"/>
          <p:cNvPicPr/>
          <p:nvPr/>
        </p:nvPicPr>
        <p:blipFill>
          <a:blip r:embed="rId1"/>
          <a:stretch/>
        </p:blipFill>
        <p:spPr>
          <a:xfrm>
            <a:off x="219564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5"/>
          <p:cNvSpPr txBox="1"/>
          <p:nvPr/>
        </p:nvSpPr>
        <p:spPr>
          <a:xfrm>
            <a:off x="1500120" y="2500200"/>
            <a:ext cx="68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GRAZIE DELL'ATTENZION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250" name="Rettangolo 2"/>
          <p:cNvSpPr/>
          <p:nvPr/>
        </p:nvSpPr>
        <p:spPr>
          <a:xfrm>
            <a:off x="2000160" y="4143240"/>
            <a:ext cx="40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 u="sng">
                <a:solidFill>
                  <a:srgbClr val="c5000b"/>
                </a:solidFill>
                <a:uFillTx/>
                <a:latin typeface="Constantia"/>
              </a:rPr>
              <a:t>Indirizzo mail :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 u="sng">
                <a:solidFill>
                  <a:srgbClr val="c5000b"/>
                </a:solidFill>
                <a:uFillTx/>
                <a:latin typeface="Constantia"/>
              </a:rPr>
              <a:t>studiopillitteri@alice.it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8469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E REGOLE del PROCESSO DAVANTI alla COMMISSIONE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TRIBUTARIA PROVINC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ELEMENTI ESSENZIALI del RICORS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OGGETTO DELLA GIURISDIZIONE TRIBUT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00680" y="25639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gionali, Provinciali e Comunal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01040" y="3141720"/>
            <a:ext cx="50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ributo per il Servizio Sanitario Nazional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96720" y="3716280"/>
            <a:ext cx="17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vrimpos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21560" y="4286160"/>
            <a:ext cx="15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dizional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01400" y="4791240"/>
            <a:ext cx="67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nzioni amministrative, comunque irrogate da uffici finanziar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99240" y="5367240"/>
            <a:ext cx="41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interessi ed ogni altro accessori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95280" y="170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utte le controversie aventi ad oggetto 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tributi di ogni genere e spec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omunque denominati compresi quell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ATTI IMPUGNAB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so può essere proposto avver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49640" y="2205000"/>
            <a:ext cx="28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accertament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71960" y="3068640"/>
            <a:ext cx="26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liquidazion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82040" y="3860640"/>
            <a:ext cx="42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vvedimento che irroga le sanzion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72680" y="4724280"/>
            <a:ext cx="37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uolo e la cartella di pagament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69800" y="5510160"/>
            <a:ext cx="19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mora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Il ricorso deve indicare, a pena di inammissibilità</a:t>
            </a:r>
            <a:r>
              <a:rPr b="0" lang="it-IT" sz="2800" spc="-1" strike="noStrike">
                <a:solidFill>
                  <a:srgbClr val="7e0021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7e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08000" y="1368360"/>
            <a:ext cx="1332000" cy="3060720"/>
          </a:xfrm>
          <a:custGeom>
            <a:avLst/>
            <a:gdLst>
              <a:gd name="textAreaLeft" fmla="*/ 360 w 1332000"/>
              <a:gd name="textAreaRight" fmla="*/ 1331640 w 133200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9626">
                <a:moveTo>
                  <a:pt x="25" y="0"/>
                </a:moveTo>
                <a:arcTo wR="25" hR="25" stAng="16200000" swAng="-5400000"/>
                <a:lnTo>
                  <a:pt x="0" y="49601"/>
                </a:lnTo>
                <a:arcTo wR="25" hR="25" stAng="10800000" swAng="-5400000"/>
                <a:lnTo>
                  <a:pt x="21575" y="49626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1413000"/>
            <a:ext cx="1584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MMISSIONE TRIBUTARI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dit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ioè l'organo giurisdizional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ui si chiede la valutazione della controversia e la decisio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512720" y="1368360"/>
            <a:ext cx="1835280" cy="3060720"/>
          </a:xfrm>
          <a:custGeom>
            <a:avLst/>
            <a:gdLst>
              <a:gd name="textAreaLeft" fmla="*/ 360 w 1835280"/>
              <a:gd name="textAreaRight" fmla="*/ 1834920 w 18352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36020">
                <a:moveTo>
                  <a:pt x="20" y="0"/>
                </a:moveTo>
                <a:arcTo wR="20" hR="20" stAng="16200000" swAng="-5400000"/>
                <a:lnTo>
                  <a:pt x="0" y="36000"/>
                </a:lnTo>
                <a:arcTo wR="20" hR="20" stAng="10800000" swAng="-5400000"/>
                <a:lnTo>
                  <a:pt x="21580" y="36020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879640" y="2160720"/>
            <a:ext cx="216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440000" y="1368360"/>
            <a:ext cx="190800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L RICORRENTE e suo legale rappresentante: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 le relative specificazion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la mancanza de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dice fiscale comporterà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'irrogazione della relativa sanzione amministrativa, ma non l'inammissibilità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419640" y="1368360"/>
            <a:ext cx="1368360" cy="3060720"/>
          </a:xfrm>
          <a:custGeom>
            <a:avLst/>
            <a:gdLst>
              <a:gd name="textAreaLeft" fmla="*/ 360 w 1368360"/>
              <a:gd name="textAreaRight" fmla="*/ 1368000 w 136836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8307">
                <a:moveTo>
                  <a:pt x="25" y="0"/>
                </a:moveTo>
                <a:arcTo wR="25" hR="25" stAng="16200000" swAng="-5400000"/>
                <a:lnTo>
                  <a:pt x="0" y="48282"/>
                </a:lnTo>
                <a:arcTo wR="25" hR="25" stAng="10800000" swAng="-5400000"/>
                <a:lnTo>
                  <a:pt x="21575" y="48307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384720" y="1444680"/>
            <a:ext cx="1439640" cy="24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L RESISTENTE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fficio finanziario, Ente territoriale locale (Comune, Provincia e Regione), Agente della riscossio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4861080" y="1368360"/>
            <a:ext cx="1187280" cy="3060720"/>
          </a:xfrm>
          <a:custGeom>
            <a:avLst/>
            <a:gdLst>
              <a:gd name="textAreaLeft" fmla="*/ 360 w 1187280"/>
              <a:gd name="textAreaRight" fmla="*/ 1186920 w 11872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55673">
                <a:moveTo>
                  <a:pt x="28" y="0"/>
                </a:moveTo>
                <a:arcTo wR="28" hR="28" stAng="16200000" swAng="-5400000"/>
                <a:lnTo>
                  <a:pt x="0" y="55645"/>
                </a:lnTo>
                <a:arcTo wR="28" hR="28" stAng="10800000" swAng="-5400000"/>
                <a:lnTo>
                  <a:pt x="21572" y="55673"/>
                </a:lnTo>
                <a:arcTo wR="28" hR="28" stAng="5400000" swAng="-5400000"/>
                <a:lnTo>
                  <a:pt x="21600" y="28"/>
                </a:lnTo>
                <a:arcTo wR="28" hR="28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788000" y="1440000"/>
            <a:ext cx="136836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' ATTO IMPUGN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vviso di accertamento, di rettifica, di liquidazione, di irrogazione delle sanzioni amministrativeecc.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6119640" y="1368360"/>
            <a:ext cx="1548000" cy="3060720"/>
          </a:xfrm>
          <a:custGeom>
            <a:avLst/>
            <a:gdLst>
              <a:gd name="textAreaLeft" fmla="*/ 360 w 1548000"/>
              <a:gd name="textAreaRight" fmla="*/ 1547640 w 154800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2703">
                <a:moveTo>
                  <a:pt x="22" y="0"/>
                </a:moveTo>
                <a:arcTo wR="22" hR="22" stAng="16200000" swAng="-5400000"/>
                <a:lnTo>
                  <a:pt x="0" y="42681"/>
                </a:lnTo>
                <a:arcTo wR="22" hR="22" stAng="10800000" swAng="-5400000"/>
                <a:lnTo>
                  <a:pt x="21578" y="4270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048360" y="1368360"/>
            <a:ext cx="16192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' OGGETTO dell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OMAND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nullament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otale o parziale delle pretese impositiv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tenut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ll'atto impugnato e/o dichiarazion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 nullità dello stess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7738920" y="1368360"/>
            <a:ext cx="1405080" cy="3060720"/>
          </a:xfrm>
          <a:custGeom>
            <a:avLst/>
            <a:gdLst>
              <a:gd name="textAreaLeft" fmla="*/ 360 w 1405080"/>
              <a:gd name="textAreaRight" fmla="*/ 1404720 w 14050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7045">
                <a:moveTo>
                  <a:pt x="27" y="0"/>
                </a:moveTo>
                <a:arcTo wR="27" hR="27" stAng="16200000" swAng="-5400000"/>
                <a:lnTo>
                  <a:pt x="0" y="47018"/>
                </a:lnTo>
                <a:arcTo wR="27" hR="27" stAng="10800000" swAng="-5400000"/>
                <a:lnTo>
                  <a:pt x="21573" y="47045"/>
                </a:lnTo>
                <a:arcTo wR="27" hR="27" stAng="5400000" swAng="-5400000"/>
                <a:lnTo>
                  <a:pt x="21600" y="27"/>
                </a:lnTo>
                <a:arcTo wR="27" hR="2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7669080" y="1476360"/>
            <a:ext cx="1474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 MOTIV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cui si ritiene di aver diritto all'accoglimento della domanda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2340000" y="4400640"/>
            <a:ext cx="360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c2300"/>
                </a:solidFill>
                <a:latin typeface="Lucida Sans Unicode"/>
              </a:rPr>
              <a:t>e deve recare la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39640" y="4788000"/>
            <a:ext cx="3600720" cy="1692000"/>
          </a:xfrm>
          <a:prstGeom prst="roundRect">
            <a:avLst>
              <a:gd name="adj" fmla="val 1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84360" y="4724280"/>
            <a:ext cx="32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4586"/>
                </a:solidFill>
                <a:latin typeface="Arial"/>
              </a:rPr>
              <a:t>(</a:t>
            </a:r>
            <a:r>
              <a:rPr b="1" i="1" lang="it-IT" sz="1400" spc="-1" strike="noStrike">
                <a:solidFill>
                  <a:srgbClr val="004586"/>
                </a:solidFill>
                <a:latin typeface="Arial"/>
              </a:rPr>
              <a:t>come regola</a:t>
            </a:r>
            <a:r>
              <a:rPr b="1" lang="it-IT" sz="1400" spc="-1" strike="noStrike">
                <a:solidFill>
                  <a:srgbClr val="004586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SOTTOSCRIZIONE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difensore munito di procura (firmata dal ricorrente e autenticata dal difensore stesso) in calce o a margine del ricors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4500720" y="4824360"/>
            <a:ext cx="39589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4500720" y="4802040"/>
            <a:ext cx="395892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4586"/>
                </a:solidFill>
                <a:latin typeface="Arial"/>
              </a:rPr>
              <a:t>(</a:t>
            </a:r>
            <a:r>
              <a:rPr b="1" i="1" lang="it-IT" sz="1400" spc="-1" strike="noStrike">
                <a:solidFill>
                  <a:srgbClr val="004586"/>
                </a:solidFill>
                <a:latin typeface="Arial"/>
              </a:rPr>
              <a:t>come eccezione</a:t>
            </a:r>
            <a:r>
              <a:rPr b="0" lang="it-IT" sz="1400" spc="-1" strike="noStrike">
                <a:solidFill>
                  <a:srgbClr val="004586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SOTTOSCRIZION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lo stesso ricorrente: solo per le controversie di valore inferiore a € 3.000 o se il ricorrente è abilitato alla difesa tecnica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539640" y="6477120"/>
            <a:ext cx="7351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.B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La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OTTOSCRIZION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va apposta su tutti gli esemplari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originale e copie)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icorso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1429920" y="900000"/>
            <a:ext cx="2538360" cy="360360"/>
          </a:xfrm>
          <a:prstGeom prst="line">
            <a:avLst/>
          </a:prstGeom>
          <a:ln w="10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Line 22"/>
          <p:cNvSpPr/>
          <p:nvPr/>
        </p:nvSpPr>
        <p:spPr>
          <a:xfrm flipH="1">
            <a:off x="2689200" y="900000"/>
            <a:ext cx="1279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3959280" y="90000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3959280" y="900000"/>
            <a:ext cx="431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3959280" y="900000"/>
            <a:ext cx="28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3959280" y="90000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Il ricorso deve inoltre indicare</a:t>
            </a:r>
            <a:r>
              <a:rPr b="0" lang="it-IT" sz="2800" spc="-1" strike="noStrike">
                <a:solidFill>
                  <a:srgbClr val="dc2300"/>
                </a:solidFill>
                <a:latin typeface="Arial"/>
              </a:rPr>
              <a:t> (</a:t>
            </a: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ancorché non a pena di inammissibilità</a:t>
            </a:r>
            <a:r>
              <a:rPr b="0" lang="it-IT" sz="2800" spc="-1" strike="noStrike">
                <a:solidFill>
                  <a:srgbClr val="dc23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360360" y="2340000"/>
            <a:ext cx="2160720" cy="4140000"/>
          </a:xfrm>
          <a:custGeom>
            <a:avLst/>
            <a:gdLst>
              <a:gd name="textAreaLeft" fmla="*/ 360 w 2160720"/>
              <a:gd name="textAreaRight" fmla="*/ 2160360 w 216072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1383">
                <a:moveTo>
                  <a:pt x="15" y="0"/>
                </a:moveTo>
                <a:arcTo wR="15" hR="15" stAng="16200000" swAng="-5400000"/>
                <a:lnTo>
                  <a:pt x="0" y="41368"/>
                </a:lnTo>
                <a:arcTo wR="15" hR="15" stAng="10800000" swAng="-5400000"/>
                <a:lnTo>
                  <a:pt x="21585" y="4138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2592360" y="2340000"/>
            <a:ext cx="1800360" cy="4140000"/>
          </a:xfrm>
          <a:custGeom>
            <a:avLst/>
            <a:gdLst>
              <a:gd name="textAreaLeft" fmla="*/ 360 w 1800360"/>
              <a:gd name="textAreaRight" fmla="*/ 1800000 w 180036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9664">
                <a:moveTo>
                  <a:pt x="19" y="0"/>
                </a:moveTo>
                <a:arcTo wR="19" hR="19" stAng="16200000" swAng="-5400000"/>
                <a:lnTo>
                  <a:pt x="0" y="49645"/>
                </a:lnTo>
                <a:arcTo wR="19" hR="19" stAng="10800000" swAng="-5400000"/>
                <a:lnTo>
                  <a:pt x="21581" y="49664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500720" y="2340000"/>
            <a:ext cx="2339640" cy="4140000"/>
          </a:xfrm>
          <a:custGeom>
            <a:avLst/>
            <a:gdLst>
              <a:gd name="textAreaLeft" fmla="*/ 360 w 2339640"/>
              <a:gd name="textAreaRight" fmla="*/ 2339280 w 233964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38219">
                <a:moveTo>
                  <a:pt x="14" y="0"/>
                </a:moveTo>
                <a:arcTo wR="14" hR="14" stAng="16200000" swAng="-5400000"/>
                <a:lnTo>
                  <a:pt x="0" y="38205"/>
                </a:lnTo>
                <a:arcTo wR="14" hR="14" stAng="10800000" swAng="-5400000"/>
                <a:lnTo>
                  <a:pt x="21586" y="3821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60360" y="2363760"/>
            <a:ext cx="216072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IL CODICE FISCALE: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ricorren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la cui omissione è punita con l'aumento del 50% del Contributo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difensor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la cui omissione è punita con la sanzione pecuniaria da € 103,00 a € 2.065,00 (art. 20, D.Lgs. 473/1997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592360" y="2340000"/>
            <a:ext cx="18003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NUMERO di FAX del difensore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cui omissione è punita con  l'aumento del 50% del Contributo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1969920" y="1440000"/>
            <a:ext cx="164160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4859280" y="1440000"/>
            <a:ext cx="72072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35640" y="2332080"/>
            <a:ext cx="234000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oppure L' INDIRIZZO di Posta elettronica certificata (P.E.C.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er i ricorrent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obbligati alla sua attivazione (società di capitali, ecc.), la cui omissione non comporta però alcuna conseguenza negativa per i trasgressori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difensor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cui omissione è punita con l'aumento del 50% del Contributo   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6948360" y="2340000"/>
            <a:ext cx="2051280" cy="4140000"/>
          </a:xfrm>
          <a:custGeom>
            <a:avLst/>
            <a:gdLst>
              <a:gd name="textAreaLeft" fmla="*/ 360 w 2051280"/>
              <a:gd name="textAreaRight" fmla="*/ 2050920 w 205128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3590">
                <a:moveTo>
                  <a:pt x="17" y="0"/>
                </a:moveTo>
                <a:arcTo wR="17" hR="17" stAng="16200000" swAng="-5400000"/>
                <a:lnTo>
                  <a:pt x="0" y="43573"/>
                </a:lnTo>
                <a:arcTo wR="17" hR="17" stAng="10800000" swAng="-5400000"/>
                <a:lnTo>
                  <a:pt x="21583" y="43590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983280" y="2573280"/>
            <a:ext cx="205272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DICHIARAZIONE di VALORE della controversia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eterminato in base ai criteri indicati nell'art. 12 del D.Lgs. 546/1992), la cui omissione comporta l'applicazione del Contributo unificato nella misura massima di € 1.500 (art. 13, comma 6,</a:t>
            </a: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D.P.R. 115/2002)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3517560" y="1440000"/>
            <a:ext cx="63180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5580000" y="1440000"/>
            <a:ext cx="197964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NUOVA MODALITÀ di PROPOSIZIONE del RICORSO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9680" y="3071880"/>
            <a:ext cx="8217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diante trasmissione telematica attraverso il SIGIT (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stem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formativo dell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stizi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buta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5:58:21Z</dcterms:created>
  <dc:creator>co</dc:creator>
  <dc:description/>
  <dc:language>en-US</dc:language>
  <cp:lastModifiedBy>casa</cp:lastModifiedBy>
  <dcterms:modified xsi:type="dcterms:W3CDTF">2018-04-12T16:38:51Z</dcterms:modified>
  <cp:revision>101</cp:revision>
  <dc:subject/>
  <dc:title>LE REGOLE del PROCESSO DAVANTI alla COMMISSIONE  TRIBUTARIA PROVINCIALE</dc:title>
</cp:coreProperties>
</file>